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842-B2EE-4F77-AF5C-A503987D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660-EE01-4D9E-84EB-5457D9E5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350-039D-4ABD-A642-4DCA302A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981-AD62-4C2B-90C9-7DAAFACE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EFC6-E123-455A-BEC7-C340A23A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2D99-B312-476F-82ED-9FE403FB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3CD1-3EF1-4580-A1E8-2EF993B4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50E1-D044-4A6A-BB75-5AD50093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59E1-6F0D-410F-B718-2BC6C74B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D750-718C-4AFD-AE04-5B392284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441F-FF2A-4F74-A8DB-1C12CF1C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B43F-2196-47C1-BAB9-27631B18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9EBF-4BEA-4F0B-9FC8-3924E84A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D9A8-475E-40BE-B4C6-571D2CD3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0254-BCB3-46E3-B0E7-139D1057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79B4-FC07-4C5A-8C29-E423DC89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AD9B-E9E9-439B-B359-BB9EBBC4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D48F-2A4E-49D3-A551-D5CC7A4B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97AB-9025-4D0F-8DE9-6C737887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C73-8720-4073-926D-32FA424D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477-6342-4153-99B5-8273D3F8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6AE7-1BB3-4CD9-A108-2195EBA5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426A-6ED9-4A4B-8B0E-FF6BF559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31CF-7A56-4482-943B-AA6FFB2D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9C5F-9B71-46BE-B445-D35A4113BF8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0D3E-48B2-4872-BF3C-924AC70572E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halkboard"/>
              </a:rPr>
              <a:t>Balancing Chemical Equation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halkboard"/>
              </a:rPr>
              <a:t>an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halkboard"/>
              </a:rPr>
              <a:t>Types of Reaction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2057040"/>
            <a:ext cx="426744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Unit #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2286000"/>
            <a:ext cx="800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83680" y="2057400"/>
            <a:ext cx="69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Yields, or produces  (Reactant(s)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Product(s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0080" y="2797200"/>
            <a:ext cx="5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8880" y="2819520"/>
            <a:ext cx="4685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Times New Roman"/>
              </a:rPr>
              <a:t>P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lus, or combines wi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00160" y="420840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5920" y="3508200"/>
            <a:ext cx="76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he reaction is reversible. (Can go either way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48600" y="129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81280"/>
            <a:ext cx="838440" cy="15264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96"/>
                </a:moveTo>
                <a:lnTo>
                  <a:pt x="528" y="96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2400">
            <a:off x="1066320" y="3885840"/>
            <a:ext cx="838440" cy="15228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96"/>
                </a:moveTo>
                <a:lnTo>
                  <a:pt x="528" y="96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2400">
            <a:off x="1141560" y="4723560"/>
            <a:ext cx="457200" cy="15084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96"/>
                </a:moveTo>
                <a:lnTo>
                  <a:pt x="528" y="96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2400">
            <a:off x="1143000" y="5638680"/>
            <a:ext cx="838080" cy="15264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96"/>
                </a:moveTo>
                <a:lnTo>
                  <a:pt x="528" y="96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419720"/>
            <a:ext cx="838080" cy="15228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96"/>
                </a:moveTo>
                <a:lnTo>
                  <a:pt x="528" y="96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5334120"/>
            <a:ext cx="457200" cy="15228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96"/>
                </a:moveTo>
                <a:lnTo>
                  <a:pt x="528" y="96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1911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reaction is reversible, but, favors the produ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51814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reaction is reversible, but, favors the reacta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66680" y="236232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057400"/>
            <a:ext cx="304920" cy="2286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60600" y="1905120"/>
            <a:ext cx="66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 the presence of heat. (The reactants must be heated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380988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33840" y="33526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ataly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07280" y="342900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 the presence of a cataly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ffff"/>
                </a:solidFill>
                <a:uFillTx/>
                <a:latin typeface="Chalkboard"/>
              </a:rPr>
              <a:t>Catalyst -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76201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1.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A substance that speeds up a chemical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reaction without being used up.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-472680" y="3962520"/>
            <a:ext cx="7573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2.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Lowers the activation energy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82760" y="5006880"/>
            <a:ext cx="797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3.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Enzymes are biological catalys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0200" y="1600200"/>
            <a:ext cx="81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N.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85920" y="1600200"/>
            <a:ext cx="203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no reac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02680" y="2362320"/>
            <a:ext cx="15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(s)  or 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↓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3360" y="2362320"/>
            <a:ext cx="3446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solid or a precipita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6960" y="3124080"/>
            <a:ext cx="22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Precipitate -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581280"/>
            <a:ext cx="8915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1. (noun)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 substance, usually a solid,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which separates from a solution as a result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f some physical or chemical chang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0292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2. (verb)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o make such a substance as previously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describ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02680" y="1905120"/>
            <a:ext cx="5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(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98400" y="1905120"/>
            <a:ext cx="12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03400" y="3200400"/>
            <a:ext cx="17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(g)  or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↑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65800" y="3201840"/>
            <a:ext cx="90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6840" y="457200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(aq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44197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queous, the substance is dissolved in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Balancing Chemical Equations</a:t>
            </a:r>
            <a:br>
              <a:rPr sz="2600"/>
            </a:b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In all balanced equations: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505320"/>
            <a:ext cx="79246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# of atoms of each element on the left of the "yields" arrow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952880"/>
            <a:ext cx="8153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# of atoms of each element on the right of the "yields" arro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46720" y="4419720"/>
            <a:ext cx="2038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must equ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14400" y="2209680"/>
            <a:ext cx="777240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Many equations can be balanced by trial and error…  However, the following five rules will make balancing quick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halkboar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Write the correct formulas: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-293400" y="2743200"/>
            <a:ext cx="95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For all reactants to the left of the a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657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For all products to the right of the a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648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c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If more than one reactant or product,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eparate them with a "plus" sig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marL="762120" indent="-762120" algn="ctr">
              <a:lnSpc>
                <a:spcPct val="120000"/>
              </a:lnSpc>
              <a:buClr>
                <a:srgbClr val="ffffff"/>
              </a:buClr>
              <a:buFont typeface="Chalkboar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Once the correct formula is written: </a:t>
            </a:r>
            <a:r>
              <a:rPr b="1" lang="en-US" sz="3600" spc="-1" strike="noStrike">
                <a:solidFill>
                  <a:srgbClr val="ffffff"/>
                </a:solidFill>
                <a:latin typeface="Chalkboard"/>
              </a:rPr>
              <a:t>NEVE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hange the subscript(s)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19047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halkboard"/>
              </a:rPr>
              <a:t>3.</a:t>
            </a:r>
            <a:r>
              <a:rPr b="1" lang="en-US" sz="3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1" lang="en-US" sz="3800" spc="-1" strike="noStrike">
                <a:solidFill>
                  <a:srgbClr val="ffffff"/>
                </a:solidFill>
                <a:latin typeface="Chalkboard"/>
              </a:rPr>
              <a:t>  Set up a chart:</a:t>
            </a:r>
            <a:br>
              <a:rPr sz="2800"/>
            </a:b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-119520" y="2819520"/>
            <a:ext cx="91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with all atom types down the left 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15280" y="3657600"/>
            <a:ext cx="47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2 colum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0480" y="4343400"/>
            <a:ext cx="550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i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ne labeled le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5880" y="5105520"/>
            <a:ext cx="66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ii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he other labeled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a “Chemical Equation”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halkboard"/>
              </a:rPr>
              <a:t>4.</a:t>
            </a:r>
            <a:r>
              <a:rPr b="1" lang="en-US" sz="3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1" lang="en-US" sz="3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Chalkboard"/>
              </a:rPr>
              <a:t>Start with any element</a:t>
            </a:r>
            <a:r>
              <a:rPr b="0" lang="en-US" sz="3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Chalkboard"/>
              </a:rPr>
              <a:t>that appears only once on</a:t>
            </a:r>
            <a:r>
              <a:rPr b="0" lang="en-US" sz="3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Chalkboard"/>
              </a:rPr>
              <a:t>both sides of the equation.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halkboard Bold"/>
              </a:rPr>
              <a:t>5. </a:t>
            </a:r>
            <a:r>
              <a:rPr b="1" lang="en-US" sz="3000" spc="-1" strike="noStrike">
                <a:solidFill>
                  <a:srgbClr val="ffffff"/>
                </a:solidFill>
                <a:latin typeface="Chalkboard Bold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halkboard Bold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halkboard Bold"/>
              </a:rPr>
              <a:t>Balance the elements one</a:t>
            </a:r>
            <a:r>
              <a:rPr b="1" lang="en-US" sz="3000" spc="-1" strike="noStrike">
                <a:solidFill>
                  <a:srgbClr val="ffffff"/>
                </a:solidFill>
                <a:latin typeface="Chalkboard Bold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halkboard Bold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halkboard Bold"/>
              </a:rPr>
              <a:t>at a time by adding coefficients in</a:t>
            </a:r>
            <a:r>
              <a:rPr b="1" lang="en-US" sz="3000" spc="-1" strike="noStrike">
                <a:solidFill>
                  <a:srgbClr val="ffffff"/>
                </a:solidFill>
                <a:latin typeface="Chalkboard Bold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halkboard Bold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halkboard Bold"/>
              </a:rPr>
              <a:t>front of the formulas.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-335880" y="3276720"/>
            <a:ext cx="79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Remember: no coefficient =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41911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Multiply coefficients by the subscript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o determine the number of at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241200" y="5257800"/>
            <a:ext cx="82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c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djust coefficients a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halkboard"/>
              </a:rPr>
              <a:t>What thing can we determine from a balanced equation?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2895480"/>
            <a:ext cx="8458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1.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Proportions of reactants &amp; products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(Remember: the coefficient shows mole rat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403848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2.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# of atoms / molecules / formula units /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mo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502920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3.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From the mole ratio… we can use DIMO to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calculate gram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Hydrogen and Iodine react to form Hydrogen iodide.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2971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+  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H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2958480" y="2971800"/>
            <a:ext cx="331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+  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2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Hydrogen bromide and Oxygen react to form water and</a:t>
            </a: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 Bromine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1808640" y="2895480"/>
            <a:ext cx="474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Br  + 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 +  B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55640" y="2895480"/>
            <a:ext cx="534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4HBr  + 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 +  2B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Carbon dioxide and water in the presence of sunlight and chlorophyll react to produce glucose (C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Chalkboard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H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Chalkboard"/>
              </a:rPr>
              <a:t>12</a:t>
            </a: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O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Chalkboard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) and oxygen.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6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+  6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6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+  6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1220040" y="3429000"/>
            <a:ext cx="64670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+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6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+ 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Copper and concentrated Nitric acid react to form Copper (II) nitrate, water, and Nitrogen dioxide.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u  +  4H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Cu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+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 +  2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289800" y="3352680"/>
            <a:ext cx="82148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Cu  +  H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Cu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+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  +  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Sodium hydroxide and Sulfuric acid react to yield</a:t>
            </a: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Sodium sulfate and water.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2NaOH  +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N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+ 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7070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3960" y="3352680"/>
            <a:ext cx="732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NaOH  +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N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+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Barium hydroxide and Nitric acid react to form Barium nitrate and water.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91440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+  2H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Ba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+ 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7070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4724280"/>
            <a:ext cx="109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3000" y="3352680"/>
            <a:ext cx="7819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Ba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+  H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Ba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+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Unit #8 part II.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ypes of Chemical Reac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Chemical Equation -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n expression representing a chemical reactio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1034640" y="38894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rm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35200" y="3889440"/>
            <a:ext cx="44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eactant(s)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→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Product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9920" y="4952880"/>
            <a:ext cx="52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he arrow is read as "yield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Chalkboard"/>
              </a:rPr>
              <a:t>Endothermic-</a:t>
            </a: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bsorbs energy (heat) from its surrounding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-596160" y="3581280"/>
            <a:ext cx="936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Ba(OH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halkboard"/>
                <a:ea typeface="ＭＳ Ｐゴシック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8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  +  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Ba(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+  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+  10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Chalkboard"/>
              </a:rPr>
              <a:t>Exothermic-  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eleases energy (heat) to its surrounding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1665000" y="4118040"/>
            <a:ext cx="5456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Mg  +  2HCl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+  Mg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Combustion-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3123720"/>
            <a:ext cx="88390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3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n element or compound reacts with oxygen, often producing energy (heat &amp; light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Combustion of an element:</a:t>
            </a:r>
            <a:br>
              <a:rPr sz="3600"/>
            </a:b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28951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General formula: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A  +  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  A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1095480" y="373392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87800" y="4191120"/>
            <a:ext cx="61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S  +  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S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(+  energy  (fire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07080" y="4800600"/>
            <a:ext cx="694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2Mg  + 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2MgO  (+  energy (fire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Chalkboard"/>
              </a:rPr>
              <a:t>Combustion of a hydrocarbon: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2895120"/>
            <a:ext cx="90676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General formula: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C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Chalkboard"/>
              </a:rPr>
              <a:t>x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H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Chalkboard"/>
              </a:rPr>
              <a:t>y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  +  O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  CO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+ H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i="1" lang="en-US" sz="2600" spc="-1" strike="noStrike">
                <a:solidFill>
                  <a:srgbClr val="ffffff"/>
                </a:solidFill>
                <a:latin typeface="Chalkboard"/>
              </a:rPr>
              <a:t>O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1103040" y="39625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0840" y="4724280"/>
            <a:ext cx="755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8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18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+  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C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+ 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 (+  energy  (fire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54080" y="4724280"/>
            <a:ext cx="78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2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</a:rPr>
              <a:t>8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</a:rPr>
              <a:t>18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  +  25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16C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+ 18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O (+  energy) (fire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alkboard"/>
              </a:rPr>
              <a:t>Synthesis-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lvl="2" marL="1062720" indent="0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lso known as "combination" reactions; two or more substances react to form a single substanc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465120" y="396252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General formula: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  +  B  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67920" y="4495680"/>
            <a:ext cx="4212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+ 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03040" y="48769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alkboard"/>
              </a:rPr>
              <a:t>Decomposition-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single compound is broken down into two or more simpler substanc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38862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General formula: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B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  + 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4800600"/>
            <a:ext cx="57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  + 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71800" y="480060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259800" y="1752480"/>
            <a:ext cx="28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halkboard"/>
              </a:rPr>
              <a:t>Electrolysis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12000" y="350532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specific type of decomposition rea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94520" y="2743200"/>
            <a:ext cx="55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terally means “Electricity” “splitting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502920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O  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→→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 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+ 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19440" y="4724280"/>
            <a:ext cx="15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lectr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67560" y="1752480"/>
            <a:ext cx="483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alkboard"/>
              </a:rPr>
              <a:t>Single Replacement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438280"/>
            <a:ext cx="8610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toms of a more reactive element, replace those of a less reactive el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1440" y="3657600"/>
            <a:ext cx="91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hese types of reactions depend on the "Activity Serie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2160" y="4651200"/>
            <a:ext cx="72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General formula: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 A  +  BC  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B  +  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65720" y="5489640"/>
            <a:ext cx="61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(where "A" is more reactive than "B")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368360" y="1752480"/>
            <a:ext cx="63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alkboard"/>
              </a:rPr>
              <a:t>Single Replacement (con’t)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2160" y="2895480"/>
            <a:ext cx="72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General formula: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 A  +  BC  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B  +  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65520" y="4952880"/>
            <a:ext cx="61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(where "A" is more reactive than "B")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61800" y="3276720"/>
            <a:ext cx="5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360" y="32767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(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94400" y="3276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79280" y="32767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(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33840" y="3809880"/>
            <a:ext cx="123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00720" y="3809880"/>
            <a:ext cx="123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Reactant(s)-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tarting substance(s) in a reactio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841120" y="1752480"/>
            <a:ext cx="36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alkboard"/>
              </a:rPr>
              <a:t>Activity series-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743200"/>
            <a:ext cx="9144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listing of metals in decreasing activity. (Just as in "electrochemistry", any metal above any other metal(s), can replace those below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-1026360" y="1905120"/>
            <a:ext cx="1046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What will the products be of the following reac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11120" y="2895480"/>
            <a:ext cx="335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Mg  +  Zn(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89160" y="3962520"/>
            <a:ext cx="32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Mg  +  2Ag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99240" y="5029200"/>
            <a:ext cx="294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Mg  +  Li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18120" y="2895480"/>
            <a:ext cx="22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Zn  +  Mg(N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)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65840" y="3962520"/>
            <a:ext cx="242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2Ag  +  Mg(N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)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09360" y="5029200"/>
            <a:ext cx="7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N.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995120" y="1752480"/>
            <a:ext cx="514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alkboard"/>
              </a:rPr>
              <a:t>Double Replacement-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-164520" y="2670120"/>
            <a:ext cx="774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Exchange of cations between two compou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9360" y="3581280"/>
            <a:ext cx="72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General formula: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AB  +  XY  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XB  +  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495680"/>
            <a:ext cx="8915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(The above will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halkboard"/>
                <a:ea typeface="ＭＳ Ｐゴシック"/>
              </a:rPr>
              <a:t>only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occur if: one of the products is either a solid, gas, or a salt with wa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-490680" y="1905120"/>
            <a:ext cx="90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Example with a ppt. (solid) produce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3840" y="3200400"/>
            <a:ext cx="388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b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+  2KI 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59480" y="3227400"/>
            <a:ext cx="251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b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+  2K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098000" y="1828800"/>
            <a:ext cx="6887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Example with a gaseous product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0560" y="2743200"/>
            <a:ext cx="420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H(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)  +  Na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2920" y="2743200"/>
            <a:ext cx="306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a(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)  +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505320"/>
            <a:ext cx="8915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Note that the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rapidly undergoes a simultaneous rea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094120" y="4419720"/>
            <a:ext cx="463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3 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  + 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50480" y="5257800"/>
            <a:ext cx="43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What type of reaction is th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7560" y="525780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halkboard"/>
              </a:rPr>
              <a:t>Decom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-609480" y="2209680"/>
            <a:ext cx="9524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Examples with a salt and water being produced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02120" y="3505320"/>
            <a:ext cx="44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1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Cl  +  NaOH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82480" y="3505320"/>
            <a:ext cx="219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aCl  +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-609480" y="1600200"/>
            <a:ext cx="9524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Examples with a salt and water being produced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4520" y="3809880"/>
            <a:ext cx="44996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2HCl  +  Mg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→→→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50600" y="3809880"/>
            <a:ext cx="244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Mg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 +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2209680"/>
            <a:ext cx="91440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he following reaction is what occurs when someone takes a small dose of "Milk of Magnesia" for heart burn (large doses act as a</a:t>
            </a:r>
            <a:r>
              <a:rPr b="0" lang="en-US" sz="2400" spc="-1" strike="noStrike">
                <a:solidFill>
                  <a:srgbClr val="ff0000"/>
                </a:solidFill>
                <a:latin typeface="Chalkboar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laxativ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4724280"/>
            <a:ext cx="7848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second reaction simultaneously occurs. What type of reaction occurs? And, what are the produc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halkboard"/>
              </a:rPr>
              <a:t>Product(s)-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bstance(s) formed by the reaction. (ending substance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90152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Can anyone tell me the chemical equation for respiration (using words)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4577760" y="4191120"/>
            <a:ext cx="36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…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Using symbo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685800" y="3352680"/>
            <a:ext cx="9601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Glucose   +   Oxygen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Carbon dioxide +   Wa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560" y="5003640"/>
            <a:ext cx="7648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12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   +   6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→→→→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 6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     +   6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halkboard"/>
                <a:ea typeface="ＭＳ Ｐゴシック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ymbols used in chemical equations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3200040"/>
            <a:ext cx="31244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Element symbol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4049640" y="3565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4600" y="3200400"/>
            <a:ext cx="40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1 atom of one e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01880" y="4648320"/>
            <a:ext cx="19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Subscript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4648320"/>
            <a:ext cx="579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dicates the number of atoms in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molecul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52280" y="2133720"/>
            <a:ext cx="7772400" cy="259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halkboard"/>
              </a:rPr>
              <a:t>NEVER CHANGE THE SUBSCRIPT OF A CORRECTLY WRITTEN FORMULA !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114800"/>
            <a:ext cx="16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Reason: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572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ＭＳ Ｐゴシック"/>
              </a:rPr>
              <a:t>The number of atoms in a molecule is an experimental f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halkboard"/>
              </a:rPr>
              <a:t>Symbols used in chemical equations (con’t):</a:t>
            </a:r>
            <a:br>
              <a:rPr sz="3600"/>
            </a:b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124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Coefficient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4049640" y="3565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34290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The number to the left of a formula, assumed to be one "1" if not writ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1800" y="4724280"/>
            <a:ext cx="882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What things can be determined by the "coefficient"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00360" y="5334120"/>
            <a:ext cx="257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The mole rati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39040" y="5334120"/>
            <a:ext cx="3465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the molecular rat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3800" y="5334120"/>
            <a:ext cx="80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22:51:57Z</dcterms:created>
  <dc:creator>PA Department of Education</dc:creator>
  <dc:description/>
  <dc:language>en-US</dc:language>
  <cp:lastModifiedBy>PA Department of Education</cp:lastModifiedBy>
  <dcterms:modified xsi:type="dcterms:W3CDTF">2008-05-05T01:00:10Z</dcterms:modified>
  <cp:revision>101</cp:revision>
  <dc:subject/>
  <dc:title>PowerPoint Presentation</dc:title>
</cp:coreProperties>
</file>